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8.jpeg" ContentType="image/jpe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39.gif" ContentType="image/gif"/>
  <Override PartName="/ppt/media/image32.wmf" ContentType="image/x-wmf"/>
  <Override PartName="/ppt/media/image12.jpeg" ContentType="image/jpeg"/>
  <Override PartName="/ppt/media/image10.gif" ContentType="image/gif"/>
  <Override PartName="/ppt/media/image8.wmf" ContentType="image/x-wmf"/>
  <Override PartName="/ppt/media/image38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31.wmf" ContentType="image/x-wmf"/>
  <Override PartName="/ppt/media/image29.wmf" ContentType="image/x-wmf"/>
  <Override PartName="/ppt/media/image41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36.wmf" ContentType="image/x-wmf"/>
  <Override PartName="/ppt/media/image13.jpeg" ContentType="image/jpeg"/>
  <Override PartName="/ppt/media/image33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2AAD-5FC3-466E-B849-E5F1CA9E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1FDD-4D06-4FF2-BCFA-240D0473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0B9C-7C43-4F51-B9B3-B07F2F32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0D5B-0A0A-4962-9481-E214853C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FC10-8129-4D64-883B-09F0961F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3FCC-543F-4894-950B-0F33DBFB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9D66-0F55-43E9-8293-EB5FF7E7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F24F-655F-4FE7-BACD-41C2D3B7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119D-A6B7-48BB-9E8B-17120539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F066-179F-4E5E-B741-B67DA62A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50FE-18A0-43EB-A12F-F1E85F94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F806-59BC-41E7-8818-61D4B2D1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50E0-9654-43B4-95FE-B00FD2F7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DCD5-0C78-40B7-B501-2A2777D2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5870-28E3-49CC-8FE5-B4315082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2F1F-02A5-46B5-8831-B621AF08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EDC0-C7EB-4041-BBBA-C1274710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2899-1767-44FC-A72A-F79E799E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4E22-12FD-487B-88D3-064E4987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B729-C3CF-44B7-A04F-94D1587A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7218-678C-448D-93BA-10C9F40E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C1AF-144E-42F9-A112-2533662F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3109-44EA-4239-8205-9C0BCCEA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34FC-780F-47ED-A23E-87C3ABC7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F748-C459-481A-AD3D-C39299CFF8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FE0B-749F-452B-B70B-6F3173C03D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gi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lar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187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to stare at 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: to st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: to ign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Glar.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 g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 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38680" y="2495520"/>
            <a:ext cx="2932200" cy="2827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heck ou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187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to out sign and tak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bor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le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s: check.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ch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38720" y="1676520"/>
            <a:ext cx="3017880" cy="4422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eun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187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a family coming  together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get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hate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re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 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re.un.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419720" y="2575080"/>
            <a:ext cx="4533840" cy="3627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nnounceme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tion: the act of making know offici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onyms: spea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onyms: not spea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Word: anno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ection: 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llable: an.noun.ce.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867280" y="4129200"/>
            <a:ext cx="1755720" cy="1803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765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rrangeme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187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the act of putting in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not in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ar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 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s: a.rrange.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54440" y="2516040"/>
            <a:ext cx="4187880" cy="2741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omestea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187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a with its houses and other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back of a b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h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 st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home .st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343400" y="2189160"/>
            <a:ext cx="4800600" cy="3927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ather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187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to come to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hate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ga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 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s: Gath.er.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475240" y="2414520"/>
            <a:ext cx="2114640" cy="2451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af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atisfac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to be satis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h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sa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 f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sat. is .fact .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791320" y="4876920"/>
            <a:ext cx="2641320" cy="1346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362320" y="1066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019920" y="228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6019920" y="114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270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727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7493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4763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4765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2959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reat-uncl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an uncle of your  fa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re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br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gr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 un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great. un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872320" y="3000240"/>
            <a:ext cx="1744560" cy="1773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roma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tion: a smell    Synonyms: sm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dirt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s:  aro. 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891040" y="1676520"/>
            <a:ext cx="1708200" cy="2135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842080" y="4349880"/>
            <a:ext cx="1806480" cy="1363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ersiste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continued firm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keep go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s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  sis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per .sis. 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888160" y="1676520"/>
            <a:ext cx="1714320" cy="2135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88296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6054480" y="1379520"/>
            <a:ext cx="45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2971800"/>
            <a:ext cx="2133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021360" y="3963960"/>
            <a:ext cx="1341360" cy="1979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ag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187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filled with des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w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h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s: e.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  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784760" y="1839960"/>
            <a:ext cx="3460680" cy="3603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itches-i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to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hel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pit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: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s: pitches.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732640" y="2389320"/>
            <a:ext cx="1990440" cy="294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evolve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to be centered around a particular th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s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 : al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re.vol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revol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 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672160" y="1895400"/>
            <a:ext cx="2144520" cy="1695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889760" y="1905120"/>
            <a:ext cx="1254240" cy="2135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715000" y="3733920"/>
            <a:ext cx="1994040" cy="1517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ededic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making holy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give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re.ded.i.ca.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dediac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 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49960" y="1773360"/>
            <a:ext cx="2789280" cy="1941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isunderstand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failure to under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puzz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: under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mis.un.der.stand.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under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: 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324480" y="5105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105520" y="5257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724280" y="1447920"/>
            <a:ext cx="2759040" cy="2593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813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813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isappointe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feeling like things didn’t go the  way you had hop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s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: g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dis.ap.point.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ap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: 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499520" y="0"/>
            <a:ext cx="1644480" cy="2135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114800" y="1371600"/>
            <a:ext cx="1790640" cy="1889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477120" y="2819520"/>
            <a:ext cx="1677960" cy="1805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ee94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roublesom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causing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anno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: no b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troub.le.s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trou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: so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562720" y="2057400"/>
            <a:ext cx="2643120" cy="3875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rizzl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light 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sprink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hard 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driz.z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399440" y="0"/>
            <a:ext cx="1744560" cy="1836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302600" y="2057400"/>
            <a:ext cx="1841400" cy="1717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7162920" y="4038480"/>
            <a:ext cx="169992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hepher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a person who herds sh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basketball p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s: shep.he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sh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: her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019920" y="2514600"/>
            <a:ext cx="1863720" cy="1744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553080" y="380880"/>
            <a:ext cx="1884600" cy="1586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6629400" y="4267080"/>
            <a:ext cx="1825560" cy="13813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olunteere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a person how offers his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hel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conscri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s: vol.un.teer.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volunte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: 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24600" y="1676520"/>
            <a:ext cx="1441440" cy="2135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927760" y="4043520"/>
            <a:ext cx="1633680" cy="1974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ttentivel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orytell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187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A person who tells or writes s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te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hear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story. te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Story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 Tell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54440" y="1963800"/>
            <a:ext cx="3135600" cy="2881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ervousl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racia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187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 :Spanish word for thank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: thank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: you wel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s: gra.ci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733920" y="3314880"/>
            <a:ext cx="5024160" cy="31446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Borro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187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to take or 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le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s: bor.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bor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319640" y="2003400"/>
            <a:ext cx="4356000" cy="2978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hattere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187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To talk quic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talk f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talk s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chat. t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cha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 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643720" y="3106800"/>
            <a:ext cx="303192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ibr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187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Spanish word for 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t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li.b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254480" y="1900080"/>
            <a:ext cx="4016520" cy="3778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dio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187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Spainsh word for bye by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by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he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 adio. 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152960" y="1954080"/>
            <a:ext cx="4459320" cy="4043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187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to drink a liquid by lifting it up with the ton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l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sp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s: l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114800" y="2490840"/>
            <a:ext cx="5029200" cy="4367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3</cp:lastModifiedBy>
  <dcterms:modified xsi:type="dcterms:W3CDTF">2009-01-29T18:29:15Z</dcterms:modified>
  <cp:revision>22</cp:revision>
  <dc:subject/>
  <dc:title>PowerPoint Presentation</dc:title>
</cp:coreProperties>
</file>